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09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6    T.Tammet    Programmeerimine       1  loeng 1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DB394C8C-D6EF-41BE-8FD3-C62998739601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th.hws.edu/javanotes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va.sun.com/j2se/downloads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4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ssejuhatus, meeldetuletus, Java kasutamine, Java ja C võrdlus, lihtsad näit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htimiskonstruktsioonid ja tsüklid. Funktsioonid ehk alamprogrammid. Lühisissejuhatus klassidesse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med. Massiivid ja struktuurid. Failid. Võrk. Veatöötl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ilide kasutamise jätk. Binaarne otsing, sorteerimine, rekursio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rteerimise jätk. Seejärel: objektid ja klassi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ktide jätk. Seejärel: Graafika ja kasutajaliid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sutajaliides: komponendid, sündm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lmas praktikum: olulist, näiteid võrgurakendu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lmas praktikum: olulist, näiteid GUI tegemi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UI tegemise lisainfot. Otsingualgoritmide alg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singualgoritmide jätk. Neljanda praktikumi sissejuhat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erukamad andmestruktuurid. Puud, has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ldiste süntaksianalüü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rid, threadid ja protsessid: paralleeltöö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ndusmetoodikad ja abivahend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8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mi kirjutamise etapid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5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ting the program text into the computer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iling the program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nning the compiled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step - running the program - either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- program running without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- program running in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let- program running in a (web)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I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HelloWorld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A program to display the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"Hello World!" on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  // end of class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ileerim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HelloWorld.jav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HelloWorld.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neme käsurealt käima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va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nction call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 with a defini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38080" y="379080"/>
            <a:ext cx="7772400" cy="306720"/>
            <a:chOff x="838080" y="379080"/>
            <a:chExt cx="7772400" cy="306720"/>
          </a:xfrm>
        </p:grpSpPr>
        <p:sp>
          <p:nvSpPr>
            <p:cNvPr id="102" name=""/>
            <p:cNvSpPr/>
            <p:nvPr/>
          </p:nvSpPr>
          <p:spPr>
            <a:xfrm>
              <a:off x="838080" y="6843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0904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923400" y="4038480"/>
            <a:ext cx="57891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mpileerime:  javac Helloa.jav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lloa.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ML failis: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ere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e on Hello apple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applet code = “Helloa”  width=120 height=120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 applet lopp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va.awt.*  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Helloa extends App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size(300, 50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.drawString("Hello", 10,50);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iler,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664240" cy="113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ecuting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 class structu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4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program is defined by a public class tha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gram-nam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s &amp; primitive nam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12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  n  rate  x15   a_long_nam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ime_is_$  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World, helloworld, HELLOWORLD, and hElloWorLD are all distinct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rved words include: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, public, static, if, else, while, and several dozen other wor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assignment statemen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rest = rate * principa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33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y man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ata types built into it, and you (as a programmer) can create as many more as you w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ther than the primitive data types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the other data in a Java program will be represented as an obj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So there is a fundamental split in the data a Java program deals wit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Primitive types       |       Objects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l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imitive TYP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6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imitive types are nam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, short, int, lo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loat, doubl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rresponds to two bytes (16 bits). Variables of type short have values in the range -32768 to 3276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rresponds to four bytes (32 bits). Variables of type int have values in the range -2147483648 to 214748364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rresponds to eight bytes (64 bits). Variables of type long have values in the range -9223372036854775808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9223372036854775807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result: rate &gt; 0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I said, \"Are you listening!\"\n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8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rjandus, vi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imumisajad, lektor, assistendid, eksam j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 tööd, tähtajad, põhimõt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mootor, kompileerimine, eripär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, C ja C#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htsad näited, muutujad, andmetüüb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4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81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uble 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space = ' 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can create several variables in the same declaration, if you separate them by commas.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uble x,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first = 'D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iddle = 'J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 = 'E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i, j = 1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est calcul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98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Interest {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the value of the investment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principal = 17000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the annual interest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interest earned in one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interes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erest = principal * rate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interest earned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intere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value of the investment after one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main()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class Inter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83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lock is the simplest type of statement. Its purpose is simply to group a sequence of statements into a single statement. The format of a block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re are two examples of block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tem.out.print("The answer is "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tem.out.println(ans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 // This block exchanges the values of x and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emp = x;  // declare temp and store x in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6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hile loop ha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the statement can be, and usually is, a block, many while loops have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re is an example of a while loop that simply prints out the numbers 1, 2, 3, 4, 5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number =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number &lt; 6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numbe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umber = number +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0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Interest2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principal = 17000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years = 0;  // counts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years &lt; 5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uble interest = principal * rate;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years = years + 1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(" years is $");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while loop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main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of class Interes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5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 if statement has one of the form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 usual, each of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's in an if statement can be a block, so that an if statement often looks lik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) {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4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x &gt; y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emp = x;  // declare temp and store x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lly, here is an example of an if statement that includes an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par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years &gt; 1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(" years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  // handle case for 1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"The value of the investment after 1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// end of if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principal);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eesmärk, eeldused, põhimõt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1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Õpetada programmeerimise aluseid ja tehnoloogiat üldise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ldades kerget varasemat kokkupuutumist programmeerimisega vähemalt eeldusaine Informaatika II mah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õhk on praktiliste kogemuste ja oskuste omandamisel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aktikumitöö on tähtsam, kui loe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askeelena kasutatakse Javat, vältides samas eriliselt Java-päraseid meetodeid, teeke jms. Ei ole spetsiaalne “Java-kursus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es loodavad rakendused on reeglina käsurea ja omaette akendega rakendused, mitte aplet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lõpetaja on all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GAJ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grammeerij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5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aeg, koht, eksam, praktiku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d: kolmapäeviti kell 14.00-15.30 ruumis VII-131 (kohe fuajee kõrval)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id loeb T.Tamm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kku 16 (?) loeng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 eraldi AK arvutiklassides: eri gruppidel eri aegadel, 1 praktikum näda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e korraldavad assistend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 lõpe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EKSAMIG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edukaks lõpetamiseks tuleb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ha ära praktilised tööd, neid tuleb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oritada edukalt ek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5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materjali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9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www-leh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lambda.ee/index/Programmeerimise_põhikurs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mine õpik kursuse juurde on tasuta e-boo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E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“Introduction to Programming Using Jav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urth Edition, Summer 20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math.hws.edu/javanotes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erjalid ilmuvad loengute eel või järel võrku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6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ksami ja praktikumi ülesanded ja nõud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2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: kirjalik, lisamaterjale kasutada ei võ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eseisev töö (ei mingeid gru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ssejuhatav ülesanne: see nä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li ülesan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mene rakendus: tikumäng, ainult tekstili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9. septe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on esialgsed variandid, mida muudetak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kstifailidest mikroandmebaas, ainult tekstili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7 oktoo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võrgurakendus (http-d kasutav kli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 24. nov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031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connect-four mäng (otsing mängupuus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2. dets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6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lulist praktikumi koh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7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ile pääsemiseks peavad olema sooritatud vähemalt kolm neljast praktikumi-ülesandes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hul, kui üks neljast ülesandest jääb realiseerimata, saab selle eest eksamil 10 trahvipunkti (eksami maksimumpunktid on 10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hilinenud ülesanne annab 5 trahvipunkti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ärast 22. detsembrit ei aktsepteerita enam ühtegi ülesanne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ülesanne tuleb programmeerida iseseisvalt ja näidata praktikumi juhendajale praktikumi ajal ett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postiga saadetud lahendusi ei aktsepteerit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Ülesande arvestamiseks ütle juhendajale praktikumi ajal ise, kui soovid lahendatud ülesannet näidata: juhendaja ei hakka reeglina ise õigeagselt uurima, et kas on ülesanne ikka teh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jalik tarkvara kodus töötamiseks (kes soovib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versioon J2SE (Java 2 standard edition) JDK (software development kit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õmba SUN-i lehelt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ava.sun.com/j2se/downloads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ähemalt 1.5 või uuem versio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di vanemate versioonide (1.3.1 ja uuemad) kasutamine on sama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Vajalik on JDK (vana nimi oli SDK), mitte JRE, ja nimelt J2SE (standard edition), mitte J2ME (micro edition) või J2EE (enterprise edi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 ja lihtne programmeerisele kohandatud tekstiredaktor. Soovitan redaktorit SciTE: http://www.scintilla.org/SciTE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7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teema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tember: juhtimiskonstruktsioonid, andm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ktoober: objektid, kasutajaliides ja graafik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vember: otsing, rekursioon, puu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sember: paralleeltöö, metoodika, var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8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cp:revision>0</cp:revision>
  <dc:subject/>
  <dc:title> </dc:title>
</cp:coreProperties>
</file>